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22C0-2A27-4472-8855-3FECAEE3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3BD4-5188-495C-B363-317E4EE2F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01ED-1D89-47F2-B0BD-2C3778C23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5EE2-BCC4-42C6-ABE5-A521F881E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6D4B-5FEC-4D47-83FB-D11A084AB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F9CD-44E2-4A53-A5C5-0DC841C31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DFAD-5EE8-47B4-81DE-32FF1A06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C61C-0417-4ED9-B396-D314588E5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4D68-87FE-47C6-93F2-768015D1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6502-FB91-49D3-93CE-107B757C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CC2C-DF57-4B81-AADA-B9790E15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C7E5-4B58-43D9-AF86-81B55311F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D395-A471-42C9-BE26-51F7AB340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212760" y="204840"/>
            <a:ext cx="8702640" cy="838080"/>
          </a:xfrm>
          <a:prstGeom prst="rect">
            <a:avLst/>
          </a:prstGeom>
          <a:solidFill>
            <a:srgbClr val="013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571356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" name="Picture 13" descr="eu"/>
          <p:cNvPicPr/>
          <p:nvPr/>
        </p:nvPicPr>
        <p:blipFill>
          <a:blip r:embed="rId2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4" descr="EUREKA"/>
          <p:cNvPicPr/>
          <p:nvPr/>
        </p:nvPicPr>
        <p:blipFill>
          <a:blip r:embed="rId3"/>
          <a:stretch/>
        </p:blipFill>
        <p:spPr>
          <a:xfrm>
            <a:off x="822816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985160" y="43956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5667A6AF-A430-4047-A89D-7964882D712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6" descr="Eurostars_Colour_Neg"/>
          <p:cNvPicPr/>
          <p:nvPr/>
        </p:nvPicPr>
        <p:blipFill>
          <a:blip r:embed="rId4"/>
          <a:stretch/>
        </p:blipFill>
        <p:spPr>
          <a:xfrm>
            <a:off x="304920" y="306360"/>
            <a:ext cx="761760" cy="660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pic>
        <p:nvPicPr>
          <p:cNvPr id="45" name="Picture 9" descr="Eurostars_Colour_Pos"/>
          <p:cNvPicPr/>
          <p:nvPr/>
        </p:nvPicPr>
        <p:blipFill>
          <a:blip r:embed="rId2"/>
          <a:stretch/>
        </p:blipFill>
        <p:spPr>
          <a:xfrm>
            <a:off x="8153280" y="6095880"/>
            <a:ext cx="762120" cy="62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212760" y="228600"/>
            <a:ext cx="870264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7985160" y="46368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EC168873-DC34-4022-9B03-BA50C66997E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13a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Picture 20" descr="EUREKA"/>
          <p:cNvPicPr/>
          <p:nvPr/>
        </p:nvPicPr>
        <p:blipFill>
          <a:blip r:embed="rId3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eu"/>
          <p:cNvPicPr/>
          <p:nvPr/>
        </p:nvPicPr>
        <p:blipFill>
          <a:blip r:embed="rId4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9"/>
          <p:cNvSpPr/>
          <p:nvPr/>
        </p:nvSpPr>
        <p:spPr>
          <a:xfrm>
            <a:off x="103320" y="6095880"/>
            <a:ext cx="8937360" cy="66672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304920" y="624852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oing business through technology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6294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Picture 49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6029280" cy="279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d24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2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28600" y="4114800"/>
            <a:ext cx="845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d2456"/>
                </a:solidFill>
                <a:latin typeface="Arial"/>
              </a:rPr>
              <a:t>Body co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5" name="Picture 16" descr="eu"/>
          <p:cNvPicPr/>
          <p:nvPr/>
        </p:nvPicPr>
        <p:blipFill>
          <a:blip r:embed="rId3"/>
          <a:stretch/>
        </p:blipFill>
        <p:spPr>
          <a:xfrm>
            <a:off x="8610480" y="6477120"/>
            <a:ext cx="447840" cy="30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EUREKA"/>
          <p:cNvPicPr/>
          <p:nvPr/>
        </p:nvPicPr>
        <p:blipFill>
          <a:blip r:embed="rId4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0" y="228600"/>
            <a:ext cx="365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cc00"/>
                </a:solidFill>
                <a:latin typeface="Trebuchet MS"/>
              </a:rPr>
              <a:t>Michel Vanavermaete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427640" y="228600"/>
            <a:ext cx="45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rebuchet MS"/>
              </a:rPr>
              <a:t>Paris – EARTO annual conference 2009 &gt; 5 May 200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EUROSTAR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EKA funding programme for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&amp;D-performing SM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859280" y="5664240"/>
            <a:ext cx="2952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ww.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www.eurostars-eureka.eu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87280" y="1557000"/>
            <a:ext cx="6156360" cy="324972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-Governmental network supporting R&amp;D-performing business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Projekty EUREKA a Eurost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50920" y="260280"/>
            <a:ext cx="41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vatopluk Halada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Z EUREKA Deputy HLR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7399440" y="56642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32" name="Obrázek 13" descr=""/>
          <p:cNvPicPr/>
          <p:nvPr/>
        </p:nvPicPr>
        <p:blipFill>
          <a:blip r:embed="rId2"/>
          <a:stretch/>
        </p:blipFill>
        <p:spPr>
          <a:xfrm>
            <a:off x="8258040" y="566424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520" y="2133720"/>
            <a:ext cx="8001000" cy="213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Obrázek 4" descr=""/>
          <p:cNvPicPr/>
          <p:nvPr/>
        </p:nvPicPr>
        <p:blipFill>
          <a:blip r:embed="rId3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y s účastí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7956720" y="5877000"/>
            <a:ext cx="1187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93" name="Obdélník 1"/>
          <p:cNvSpPr/>
          <p:nvPr/>
        </p:nvSpPr>
        <p:spPr>
          <a:xfrm>
            <a:off x="755640" y="1341360"/>
            <a:ext cx="7777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sledky českých organizací v programu Eurostars-2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(období 2014-202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4" name="Obrázek 2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279360" y="2583000"/>
          <a:ext cx="8586720" cy="2501640"/>
        </p:xfrm>
        <a:graphic>
          <a:graphicData uri="http://schemas.openxmlformats.org/drawingml/2006/table">
            <a:tbl>
              <a:tblPr/>
              <a:tblGrid>
                <a:gridCol w="2289240"/>
                <a:gridCol w="933480"/>
                <a:gridCol w="998640"/>
                <a:gridCol w="934920"/>
                <a:gridCol w="936720"/>
                <a:gridCol w="936360"/>
                <a:gridCol w="792360"/>
                <a:gridCol w="765000"/>
              </a:tblGrid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čet projekt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á podpo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é projek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 tis.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 812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 4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 2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 6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 8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Rectangle 1"/>
          <p:cNvSpPr/>
          <p:nvPr/>
        </p:nvSpPr>
        <p:spPr>
          <a:xfrm>
            <a:off x="378000" y="2131920"/>
            <a:ext cx="858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1" name="Obdélník 1"/>
          <p:cNvSpPr/>
          <p:nvPr/>
        </p:nvSpPr>
        <p:spPr>
          <a:xfrm>
            <a:off x="378000" y="1751040"/>
            <a:ext cx="84628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Velmi aktivní v přípravě a počtu schválených network projektů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ůsledek prováděného účelového financování od roku 1994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louhodobé a motivující zkušenosti v řešení network projektů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převažující zájem být hlavním řešitelem mezinárodního projek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nší účast v klastrových projektech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kolísavý zájem firem i výzkumných organizací  (mateřské podniky velkých firem většinou v zahraničí včetně tam prováděného výzkumu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 případě účasti a zapojení dosahovány vynikající a oceňované výsledk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lísavé výsledky v programu Eurost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ětšinou průměrná obsahová invence a náměty předkládaných projektů včetně rozsahu komerčního uplatnění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někdy nepříliš vhodná volba zahraničního strategického partner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Obdélník 2"/>
          <p:cNvSpPr/>
          <p:nvPr/>
        </p:nvSpPr>
        <p:spPr>
          <a:xfrm>
            <a:off x="378000" y="1160640"/>
            <a:ext cx="801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ledky České republiky – obecné shrnut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3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8" name="Obdélník 2"/>
          <p:cNvSpPr/>
          <p:nvPr/>
        </p:nvSpPr>
        <p:spPr>
          <a:xfrm>
            <a:off x="826920" y="3397320"/>
            <a:ext cx="792180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S přípravou návrhu projektu a dotační žádosti je potřeba začít vždy co nejdřív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Kontaktujte národního koordinátora, rádi vám pomůžem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Procento úspěšnosti v rámci INTER-EUREKA i Eurostars  je oproti  Rámcovému programu vysoké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9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310" name="obrázek 2" descr="https://www.tallyfox.com/sites/default/files/3.png"/>
          <p:cNvPicPr/>
          <p:nvPr/>
        </p:nvPicPr>
        <p:blipFill>
          <a:blip r:embed="rId3"/>
          <a:stretch/>
        </p:blipFill>
        <p:spPr>
          <a:xfrm>
            <a:off x="692280" y="1160640"/>
            <a:ext cx="22874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928800" y="1285920"/>
            <a:ext cx="7812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979640" y="2571840"/>
            <a:ext cx="716436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ekanetwork.or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ostars-eureka.eu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msmt.cz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a Eurosta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611280" y="191448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ce flexibilní podmínky pro přípravu a podávání mezinárodních projektů VaVa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sahové zaměření projektů napříč technologickými oblast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y jsou vždy definovány jejich účastníky (systémov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360360" indent="-360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zdola nahor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“bottom-up“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oduchá projektová pravidla a průběžné nebo často      opakované výzvy pro podávání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administrativní a byrokratická zátě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k dotačnímu systému národního spolufinancován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 pro zahájení obchodní spolupráce napříč evropskými geografickými hranice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Obdélník 2"/>
          <p:cNvSpPr/>
          <p:nvPr/>
        </p:nvSpPr>
        <p:spPr>
          <a:xfrm>
            <a:off x="611280" y="126828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a Eurostars umožňu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9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Obdélník 1"/>
          <p:cNvSpPr/>
          <p:nvPr/>
        </p:nvSpPr>
        <p:spPr>
          <a:xfrm>
            <a:off x="611280" y="1892160"/>
            <a:ext cx="8424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zinárodní projektovou spolupráci ve výzkumu a inovac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Spolufinancování z národních účelových prostředk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EUREKA network projekty, EUREKA subklastrové projekty, Eurostars projek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todickou a konzultační podporu při přípravě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ntakt s národními koordinátory a experty v členských zem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omoc při vyhledávání zahraničních partner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ropagaci výsledků řešení projektů na odborných akcích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a veletrz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Obdélník 2"/>
          <p:cNvSpPr/>
          <p:nvPr/>
        </p:nvSpPr>
        <p:spPr>
          <a:xfrm>
            <a:off x="611280" y="122076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 a Eurostars nabíze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6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170000"/>
            <a:ext cx="84312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EKA programu</a:t>
            </a: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403280" y="2421000"/>
            <a:ext cx="7239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53" name="Obdélník 2"/>
          <p:cNvSpPr/>
          <p:nvPr/>
        </p:nvSpPr>
        <p:spPr>
          <a:xfrm>
            <a:off x="501480" y="2133720"/>
            <a:ext cx="86425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brá inovativní myšlenka z kategorie aplikovaného/ průmyslového výzkumu s výstupem pro komerční využit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tní spolufinancování projektu ve výši 50%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ěřený zahraniční partner ze zemí zapojených do programu EUREKA (41 členských zemí + 4 asociované státy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hodný okruh konečných uživatelů výstupů řešení projekt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akt /konzultace s národním koordinátorem programu EUREKA /MŠMT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ůslednost při přípravě projektu a jednání se zahraničním partnere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třebný kontakt zahraničního partnera se svým národním koordinátorem programu EUREKA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oporučení řešitelů projektů EUREKA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kt 7"/>
          <p:cNvGraphicFramePr/>
          <p:nvPr/>
        </p:nvGraphicFramePr>
        <p:xfrm>
          <a:off x="179280" y="2060640"/>
          <a:ext cx="8595000" cy="39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859500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Obdélník 5"/>
          <p:cNvSpPr/>
          <p:nvPr/>
        </p:nvSpPr>
        <p:spPr>
          <a:xfrm>
            <a:off x="378000" y="1025640"/>
            <a:ext cx="822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INTER-EUREKA 1. – 4. výzv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období 2017-2018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006560" y="1628640"/>
            <a:ext cx="763596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en-GB" sz="1600" spc="-1" strike="noStrike">
                <a:solidFill>
                  <a:srgbClr val="013a81"/>
                </a:solidFill>
                <a:latin typeface="Trebuchet MS"/>
              </a:rPr>
              <a:t>EUREKA is :</a:t>
            </a: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Intergovernmental initiativ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39 Members – EU 26, European Commission + 11 other European countries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Financed using national public and private funding</a:t>
            </a:r>
            <a:br>
              <a:rPr sz="1600"/>
            </a:b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Market-oriented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Projects must result in a marketable product, process or service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Bottom-up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The consortium decides on the project aim. No thematic restriction)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"/>
          <p:cNvPicPr/>
          <p:nvPr/>
        </p:nvPicPr>
        <p:blipFill>
          <a:blip r:embed="rId2"/>
          <a:stretch/>
        </p:blipFill>
        <p:spPr>
          <a:xfrm>
            <a:off x="506520" y="1362240"/>
            <a:ext cx="8327880" cy="50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Graf 7"/>
          <p:cNvGraphicFramePr/>
          <p:nvPr/>
        </p:nvGraphicFramePr>
        <p:xfrm>
          <a:off x="539640" y="1170000"/>
          <a:ext cx="8209080" cy="538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2" name="Graf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70000"/>
                    <a:ext cx="820908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77" name="Obrázek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813744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82" name="Obdélník 1"/>
          <p:cNvSpPr/>
          <p:nvPr/>
        </p:nvSpPr>
        <p:spPr>
          <a:xfrm>
            <a:off x="179280" y="2303640"/>
            <a:ext cx="869328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Vhodná volba technologického oboru a strategického     partner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Jasné zaměření řešení projektu a jeho výstupů na nový produkt, službu, technologi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Řádně popsat všechny aspekty projektu (management projektu, metodika řešení, technologický pokrok, velikost trhu a schopnost se zde uplatnit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Originální tematické nápady mají vždy větší šanc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Doporučení M. Janečka,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bývalý předseda Eurostars mezinárodního hodnotícího panelu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Obdélník 2"/>
          <p:cNvSpPr/>
          <p:nvPr/>
        </p:nvSpPr>
        <p:spPr>
          <a:xfrm>
            <a:off x="684360" y="1170000"/>
            <a:ext cx="828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ostars  programu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4" name="Obrázek 8" descr=""/>
          <p:cNvPicPr/>
          <p:nvPr/>
        </p:nvPicPr>
        <p:blipFill>
          <a:blip r:embed="rId2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42:32Z</dcterms:created>
  <dc:creator>Dorothee De Keyzer</dc:creator>
  <dc:description/>
  <dc:language>en-US</dc:language>
  <cp:lastModifiedBy>HALADA</cp:lastModifiedBy>
  <dcterms:modified xsi:type="dcterms:W3CDTF">2019-02-27T14:40:34Z</dcterms:modified>
  <cp:revision>203</cp:revision>
  <dc:subject/>
  <dc:title>PowerPoint Presentation</dc:title>
</cp:coreProperties>
</file>